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FF57B-19E2-4874-8AE8-E226D09E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82FF8-4B77-4D87-B278-1FAEF15F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DA939D-36C9-44BD-8E41-9F2787FD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601D2-1911-46D0-809A-8AF4DFF3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5A2BA5-FCD2-4DA9-B331-AEE209F99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C954EF-A14B-4866-BF31-253648BC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534E2D-4D36-43FE-A13C-680157A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EFA159-3B4B-4048-A6B7-9515025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51BB75-7056-41B1-AAA9-7F35A50FF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82A289-3D5C-4FD2-BED2-E7B96EBA4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BA9F3-4D05-4449-8284-A4E86210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3CE8D2-D18F-485A-9E98-05569A98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CA75-1085-4EE5-9E48-4F86CCC1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89248F-1A9C-4FD4-B8D7-F9B0A1C9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EF7AF7-C71C-4865-B495-219ED713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3C0449-B9E9-490C-9F59-7B53A162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09FCD1-7957-4651-81B2-5AE30C9B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EDA894-3C8C-40D3-8CF7-6BF57E6F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0DB585-C569-4459-9941-A4367F48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4C1CDB-DC62-431F-BF51-CEF24D94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A141148-2A49-46DD-85A4-1410A57C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E03A69-97B7-4C15-BD28-2180D30F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EF4E70-671A-4131-AC3B-6B7ABDD9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AD75D-00B2-45A7-A424-BDFB6549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70D91C-1814-4FDD-A85C-D3C2CE07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44A8E8-DAC3-478B-91B3-DF9C7FD9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B0771C8-FF9E-46D6-A245-EDC13060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6E973B-8D26-4B16-8090-C4B7C7E8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B06265-2858-49B4-91D0-26CC4BD4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9D7E03-B787-44E1-9E18-D63EE688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7D5CCA-66E3-42E5-8D7D-7FD303C6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88573E-037B-43AF-9CFB-447CE5DA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5B87F6E-5E91-4D6A-A69C-E3AAAAB1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51D4C2-C45A-40C1-9C20-61923A71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A176-1088-4EFA-BE64-3429783D5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773483-25AC-4739-8429-41F65828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A865F7-18B8-436A-AFCB-1A43D564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2AA87E-F03E-4E8E-838F-378914A4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F47B2E-9710-41C7-AD06-32478681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C5C2DB-D025-4507-A705-CAD62C1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BD9F550-F1FF-4300-9E04-52AAF34D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1458AC-D4A1-4095-B483-2437C44F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DD987D-781A-4638-AC38-5E5160AD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ECF67F-57ED-4369-8F6E-6A1F33EC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775EC-232E-4D09-A7E0-1E2A591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AD8E-4439-4EE6-B082-1F64DAD7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DFAC7D-3D0B-4A55-9955-4C894DCB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BED33E-48FB-42E3-B545-1375BAA1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D02869-A558-483F-B239-F835D010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C5C6A35-35CF-4663-B140-703EC80C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69F898-6CCC-43D1-A4DE-A19842EC6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51CD-9D0F-41C8-9EAA-F74EC23B5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6D3C-1956-40ED-AFCD-403E3B51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CA02-786B-40F5-85FA-EC42B4FD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6F51-4FB8-4468-986A-401A2C46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A9F6-15FD-4D4A-BC4D-5E00DED3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1526-59E2-4D99-B2AB-985C682F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E094-D930-41FC-B6B0-823F0769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2BAC-14EB-4EEB-8ED3-693687B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4BBB-DA06-4FE8-A18A-5BE47A2B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3652-5C29-4711-86EB-FD3351DA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2005-B58E-4017-AFD7-15E3C96D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242CB-3027-4F3D-B098-DED6F2D86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794BF-2201-4C1B-AD6E-BDD6EF50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76C8F-16BE-4A33-AA71-2D46AFB5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F002C-5EE9-4280-8202-7C1A7D813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B48F5-2068-4719-B127-E5AA6A00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E684-B26C-4D45-B9C3-90447388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87CB4-DCF6-4179-80A7-589D76FD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2B914-0CB6-4F6B-A22A-1AEB3D09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8A1BA-1F40-4F2A-BAD8-A0907D0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738BD-15A9-4F9D-925D-09E3FFC0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2FD41-87FE-4EBF-B838-E5C6C677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E3E86-5B09-425D-842F-D0D50863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35051F-145C-4A9E-B432-803CA5C6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DD1AE9-6602-4357-B498-116390B8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AE56A-5A04-4F5E-AD53-4B0423B1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31CB98-6A8C-4B52-A32B-70623EA1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8A5BB-2061-4CAC-ABEC-F10E7C54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CF655-566C-4A21-A080-9DB25C83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E00FF-FC70-4EE1-8F76-E226ED19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04B5AE-0218-41C3-A93E-99766A1B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7BE9BF-1EBF-4A69-9025-1B006B01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D91609-8A2C-4B63-993C-B45F8AE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21289-1514-4724-975C-6A2FE8F4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61E165-8FA5-4BD4-89D5-DA7269FAF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BCAF5A-F983-4D3C-9160-97BBA353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77C0D-A88D-448E-9717-151FFDF8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6D9BE-8574-4DE6-A17D-A162F4B8F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7E7B4-64A3-4D1E-97AE-5A1DE652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CF39B-9E98-4131-BDFA-6AC382C8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313542-4961-49B2-90F6-5D6B50AF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D9B92-A400-41DC-BCEA-23A099B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C22BF7-57A7-4421-908D-5DA71820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CFB8D5-C354-4A40-9A62-7A37DB8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65B6C-C11F-4147-BF90-B06F34D6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78B228-C389-42A3-82BE-2DDAEF8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3A48F9-CAC4-4F2B-B134-8D449E4D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C4FB84-E180-4CD7-9488-2EFFF311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9FF46-675F-4232-83E1-247EFD4D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82F2C-96D5-4BDC-9D55-619B41A1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CAC120-7E69-4FC7-95F2-7D3F3EFD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1B1C3-4F1F-4AAC-9626-BF0EBAA7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C637A-1404-4451-AB95-B7CA7A8A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315463-06B9-4E86-89BB-20098E51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5DFA2-0C72-48AE-8A51-6599A80F6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D2588-EA22-4187-829F-B0EBC16D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0F211-0B8C-47B6-994B-30D23BC7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CBBEBA-A98B-43F8-B61A-1D251139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7864F8-588D-4A68-9EF2-A0FA023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B9196A-BB6E-4374-AF65-D0E54F9D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6C80-4D56-4DAC-B006-293586C1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DBAF4D-7C23-4E12-AB2F-464B0463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EF646E-6404-4BFF-A300-1DFE17A3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D7583-C77E-4274-AB9E-47B08798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5EB884-3ADF-4A0A-9169-53B161B2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D91EE-242D-42F2-B181-0D047B74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5DDFD0-59F7-4ADB-8FEC-461F51D4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BE179-AF47-42B7-A3EE-767D93D0A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AE1D8F-182A-4FB9-A0E5-A6EAE24F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4476DB-CF5C-48B5-950E-CB20AE1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523102-5A28-44EC-BA68-3B1C98E1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3D34-8354-4D75-B6A8-6F6A494C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F75B4-6CAC-4B22-980D-156EB34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EE3D3A-D25A-49C7-8336-59E2EE13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9EA15-045E-4D90-B237-5B2F157E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963F5-4088-4DB7-81A2-7E6A4035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D5087-FF06-4113-AD7F-F75041022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051E53-C1B9-4EF0-A01E-71FD8AF4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FF5A3-23AD-4F31-AFD8-622CE3F2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2A632-46A0-4D48-815F-FF56F63F1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34AF47-DBE8-46C1-B725-E97F1A8F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F7A906-99BE-4EE3-887D-4C741363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0F3BF-4E63-4E37-963D-BF00910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6B826-EAB9-476A-9548-CEE02450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2347CD-E571-4856-BE3E-4C5D5C74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44C1E9-92A9-4C61-AF9D-9834D75A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2CBF7B-F766-47C2-9637-D0BD0AAF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D642E9-CA96-4CAF-AE2E-CCE90474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4964FE-8D98-473C-998D-CCE45EA4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4F3B27-0C21-464A-9509-0F5A1F53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370476-25B9-49A9-8C0B-A7D18E35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B37B99-3824-4441-8AD2-3B07A9A4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169E2C-805D-43A2-95FC-31D87E41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081-CF13-4394-A2C3-0BDEE2ECBFC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3899-9989-4B35-83D0-35D30CC83B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561C-E860-4E99-B17B-C85A773D10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11BC-6BBA-40B6-97F0-48B4A023420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7FB9-624E-4975-BE32-2F832EC7F50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199E-83A3-4699-B2C4-26690EBB9B2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32BC-A8DF-4086-9732-8759C4B2E2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8BC5-F0E6-4205-AEDE-8E37D5550F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F0C0-62E6-4370-9BDC-F04D2094672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400-607C-4E80-880E-C98D64931D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7BFD-45BB-42B8-A65D-AEB57BB439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86F-309D-439C-9602-7E0EBEAA99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Garamond"/>
              </a:rPr>
              <a:t>Отечественная войн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3429000" y="857160"/>
            <a:ext cx="266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Garamond"/>
              </a:rPr>
              <a:t>1812 г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8582040" cy="378612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7"/>
          <p:cNvSpPr/>
          <p:nvPr/>
        </p:nvSpPr>
        <p:spPr>
          <a:xfrm>
            <a:off x="9360" y="5646960"/>
            <a:ext cx="332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ая же гроза нависла над Россией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5" name="Прямоугольник 6"/>
          <p:cNvSpPr/>
          <p:nvPr/>
        </p:nvSpPr>
        <p:spPr>
          <a:xfrm>
            <a:off x="3147480" y="592920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называлась война 1812 год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797080" y="6358320"/>
            <a:ext cx="31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Почему эта война так называлась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5" descr=""/>
          <p:cNvPicPr/>
          <p:nvPr/>
        </p:nvPicPr>
        <p:blipFill>
          <a:blip r:embed="rId1"/>
          <a:srcRect l="24202" t="0" r="23390" b="34782"/>
          <a:stretch/>
        </p:blipFill>
        <p:spPr>
          <a:xfrm>
            <a:off x="6215040" y="428760"/>
            <a:ext cx="2500200" cy="3286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"/>
          <p:cNvPicPr/>
          <p:nvPr/>
        </p:nvPicPr>
        <p:blipFill>
          <a:blip r:embed="rId2"/>
          <a:srcRect l="9470" t="0" r="2926" b="0"/>
          <a:stretch/>
        </p:blipFill>
        <p:spPr>
          <a:xfrm>
            <a:off x="285840" y="428760"/>
            <a:ext cx="2643120" cy="3357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"/>
          <p:cNvPicPr/>
          <p:nvPr/>
        </p:nvPicPr>
        <p:blipFill>
          <a:blip r:embed="rId3"/>
          <a:srcRect l="29628" t="0" r="19772" b="39547"/>
          <a:stretch/>
        </p:blipFill>
        <p:spPr>
          <a:xfrm>
            <a:off x="3357720" y="2071800"/>
            <a:ext cx="2500200" cy="3324240"/>
          </a:xfrm>
          <a:prstGeom prst="rect">
            <a:avLst/>
          </a:prstGeom>
          <a:ln w="0">
            <a:noFill/>
          </a:ln>
        </p:spPr>
      </p:pic>
      <p:sp>
        <p:nvSpPr>
          <p:cNvPr id="520" name="TextBox 7"/>
          <p:cNvSpPr/>
          <p:nvPr/>
        </p:nvSpPr>
        <p:spPr>
          <a:xfrm>
            <a:off x="142920" y="442908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aramond"/>
              </a:rPr>
              <a:t>Михаил Илларионович Кутуз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1" name="TextBox 8"/>
          <p:cNvSpPr/>
          <p:nvPr/>
        </p:nvSpPr>
        <p:spPr>
          <a:xfrm>
            <a:off x="3357720" y="571680"/>
            <a:ext cx="235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Наполеон Бонапар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6429240" y="4357800"/>
            <a:ext cx="271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aramond"/>
              </a:rPr>
              <a:t>Императо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Rectangle 9"/>
          <p:cNvSpPr/>
          <p:nvPr/>
        </p:nvSpPr>
        <p:spPr>
          <a:xfrm>
            <a:off x="10800" y="6005520"/>
            <a:ext cx="5639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то командовал русской армией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звали императора Франции, чьи войска вторглись в Россию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вы думаете, кто изображен на третьем портрете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00"/>
                </a:solidFill>
                <a:latin typeface="Garamond"/>
              </a:rPr>
              <a:t>Император-освободитель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3276720" y="1484280"/>
            <a:ext cx="20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0" y="2143080"/>
            <a:ext cx="91440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?</a:t>
            </a:r>
            <a:endParaRPr b="0" lang="en-US" sz="28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"/>
          <p:cNvPicPr/>
          <p:nvPr/>
        </p:nvPicPr>
        <p:blipFill>
          <a:blip r:embed="rId1"/>
          <a:srcRect l="0" t="2818" r="2920" b="21516"/>
          <a:stretch/>
        </p:blipFill>
        <p:spPr>
          <a:xfrm>
            <a:off x="357120" y="285840"/>
            <a:ext cx="2714760" cy="367164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1908000" y="404640"/>
            <a:ext cx="604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238560" y="4287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aramond"/>
              </a:rPr>
              <a:t>Император - освободител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857760" y="1214280"/>
            <a:ext cx="41749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Александр</a:t>
            </a:r>
            <a:r>
              <a:rPr b="1" lang="en-US" sz="5400" spc="-1" strike="noStrike">
                <a:solidFill>
                  <a:srgbClr val="002060"/>
                </a:solidFill>
                <a:latin typeface="Garamond"/>
              </a:rPr>
              <a:t> II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14200" y="4214880"/>
            <a:ext cx="4714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Garamond"/>
              </a:rPr>
              <a:t>ОТМЕНА КРЕПОСТНОГО ПРАВ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714920" y="4214880"/>
            <a:ext cx="42498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9 ФЕВРАЛЯ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1861 ГОД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3" name="Rectangle 9"/>
          <p:cNvSpPr/>
          <p:nvPr/>
        </p:nvSpPr>
        <p:spPr>
          <a:xfrm>
            <a:off x="2520" y="6077160"/>
            <a:ext cx="316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звали император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огда он правил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его назвали освободителем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4000680" y="2500200"/>
            <a:ext cx="417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Garamond"/>
              </a:rPr>
              <a:t>1856 - 1887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Европа и Россия во второй половине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XIX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ве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0" y="2331720"/>
            <a:ext cx="450072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железных доро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ног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роизводили и продавали разные товар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48320" y="178560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одна железная дорог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мало фабрик и завод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покупали товары в Европ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116000" y="155736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Европ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Text Box 10"/>
          <p:cNvSpPr/>
          <p:nvPr/>
        </p:nvSpPr>
        <p:spPr>
          <a:xfrm>
            <a:off x="529272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Россия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-46800" y="4786200"/>
            <a:ext cx="50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вольнонаемные</a:t>
            </a:r>
            <a:r>
              <a:rPr b="1" lang="ru-RU" sz="1800" spc="-1" strike="noStrike">
                <a:solidFill>
                  <a:srgbClr val="000514"/>
                </a:solidFill>
                <a:latin typeface="Garamond"/>
              </a:rPr>
              <a:t>  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рабоч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4595040" y="4786200"/>
            <a:ext cx="44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постны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514"/>
                </a:solidFill>
                <a:latin typeface="Garamond"/>
              </a:rPr>
              <a:t>крестья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0" y="605808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узнали о России и Европе второй половины XIX века?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отрите, как отличалась по своему развитию Россия от Европы во второй половине XIX века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 причем же здесь крепостное право? 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77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" dur="770" fill="hold"/>
                                        <p:tgtEl>
                                          <p:spTgt spid="5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7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70" fill="hold"/>
                                        <p:tgtEl>
                                          <p:spTgt spid="5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7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1908000" y="18900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еформы Александра 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24000" y="1557360"/>
            <a:ext cx="309708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тмена крепостного прав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5219640" y="1700280"/>
            <a:ext cx="3672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деб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4859280" y="3213000"/>
            <a:ext cx="388944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университет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55640" y="3645000"/>
            <a:ext cx="3240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военн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979640" y="4581360"/>
            <a:ext cx="5329080" cy="520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городская рефор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9" name="Line 8"/>
          <p:cNvSpPr/>
          <p:nvPr/>
        </p:nvSpPr>
        <p:spPr>
          <a:xfrm flipH="1">
            <a:off x="2195640" y="907920"/>
            <a:ext cx="1008000" cy="649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0" name="Line 9"/>
          <p:cNvSpPr/>
          <p:nvPr/>
        </p:nvSpPr>
        <p:spPr>
          <a:xfrm>
            <a:off x="5148360" y="981000"/>
            <a:ext cx="1079280" cy="64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1" name="Line 10"/>
          <p:cNvSpPr/>
          <p:nvPr/>
        </p:nvSpPr>
        <p:spPr>
          <a:xfrm flipH="1">
            <a:off x="3203640" y="981000"/>
            <a:ext cx="936720" cy="2664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4572000" y="981000"/>
            <a:ext cx="720720" cy="2232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3" name="Line 13"/>
          <p:cNvSpPr/>
          <p:nvPr/>
        </p:nvSpPr>
        <p:spPr>
          <a:xfrm>
            <a:off x="4356000" y="981000"/>
            <a:ext cx="0" cy="360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571680" y="5214960"/>
            <a:ext cx="8064360" cy="1191240"/>
          </a:xfrm>
          <a:prstGeom prst="rect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aramond"/>
              </a:rPr>
              <a:t>Россия стремительно догоняла развитые Европейские страны</a:t>
            </a:r>
            <a:r>
              <a:rPr b="1" lang="en-US" sz="3600" spc="-1" strike="noStrike">
                <a:solidFill>
                  <a:srgbClr val="00206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5" name="Rectangle 15"/>
          <p:cNvSpPr/>
          <p:nvPr/>
        </p:nvSpPr>
        <p:spPr>
          <a:xfrm>
            <a:off x="1188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к изменилась жизнь в России во второй половине XIX века?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19:38:57Z</dcterms:created>
  <dc:creator>Admin</dc:creator>
  <dc:description/>
  <dc:language>en-US</dc:language>
  <cp:lastModifiedBy>Admin</cp:lastModifiedBy>
  <dcterms:modified xsi:type="dcterms:W3CDTF">2010-04-01T13:16:11Z</dcterms:modified>
  <cp:revision>20</cp:revision>
  <dc:subject/>
  <dc:title>Слайд 1</dc:title>
</cp:coreProperties>
</file>